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EE2-2206-4F75-9461-FE682932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4B3-0A47-4896-935E-927CA7EB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21A-9320-42DB-B52E-44A7DB93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4A0-9696-4A36-83C4-1A198187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18B-3553-4693-82AC-413F1F6C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2F5-62CC-4B1A-8441-DE37D1B3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C74-3759-4CBB-82B5-ADA1E111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6FC-407C-42B6-86D4-5005B3E8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BAC-BDF5-4529-BB49-7530F7ED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FF7-2C3F-41A4-9348-EA1EF0B4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3FC-4025-43AD-A0F5-B2C38BDF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BA8-8D3A-4A48-81F7-E4CFDA29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8FF6-96D3-49D5-BF93-9403161E5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3004920" cy="3927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79640" y="404640"/>
            <a:ext cx="5343480" cy="8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ransverse section of a Leaf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600960" y="451332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35400" y="235440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27680" y="3649680"/>
            <a:ext cx="8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7040" y="191628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xy co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2492280"/>
            <a:ext cx="158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95640" y="3500280"/>
            <a:ext cx="208908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651640" y="2565360"/>
            <a:ext cx="12967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4643280" y="4508640"/>
            <a:ext cx="194472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4680000" cy="4508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3924360" y="907920"/>
            <a:ext cx="22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076720" y="1916280"/>
            <a:ext cx="1295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716360" y="2707920"/>
            <a:ext cx="17272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342900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708360" y="4941360"/>
            <a:ext cx="2735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5084640"/>
            <a:ext cx="2592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70120" y="52380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xy cu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46240" y="165420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lisad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88000" y="249228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0560" y="35989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45600" y="467820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42480" y="583092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uard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780000" y="260280"/>
            <a:ext cx="1879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Question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1125360"/>
            <a:ext cx="7848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Which gas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sed u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photo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Which gas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duc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photo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What two things does the plant need for photosynthes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ut aren’t exactly used up in the proc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What colour of light does chlorophyll refl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What is the whole point of photo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 What does the plant store glucose 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 What colour does iodine go if there is lots of this stora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. Does a plant do respiration as well as photo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 What is respi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 Does respiration produce or use up carbon diox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780000" y="260280"/>
            <a:ext cx="1879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nswer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1125360"/>
            <a:ext cx="7848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Carbon 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Chlorophyll and sun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G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For a plant to produce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 St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.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 Using glucose and oxygen to make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 Pro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18:49:45Z</dcterms:created>
  <dc:creator>joe scrivens</dc:creator>
  <dc:description/>
  <dc:language>en-US</dc:language>
  <cp:lastModifiedBy>jscrivens</cp:lastModifiedBy>
  <dcterms:modified xsi:type="dcterms:W3CDTF">2006-11-20T10:52:58Z</dcterms:modified>
  <cp:revision>14</cp:revision>
  <dc:subject/>
  <dc:title>Slide 1</dc:title>
</cp:coreProperties>
</file>